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95A5-94B2-4796-AE3C-2548769E3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F296-76C4-4B1B-AF29-D971EFE81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E69B-E663-4DAA-9652-7D0C7DD00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00A0-B041-4BEA-B78F-C60B78506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872EB-57A7-4EE2-A580-F3162A05D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446D4-49F8-49B0-A6AD-59C6559D9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E0A88-A9A5-4120-965F-805F98EC0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26C3F-5916-4136-BBA9-9A524A635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E8F1A-7610-4EE3-AE5D-111039404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E0512-C466-4AEA-931E-8D0282235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F5DB4-59BA-41DC-8A0B-9B52C7164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D9CA-08C2-4086-80C1-46D24D471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8674E-C96A-488A-A048-2BFD3BD05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A6DD3-7371-402F-A128-E77A4380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3801C-DFB0-4637-8996-AC5D53566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712BF-BA00-4EBB-94E7-9A176B70D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60293-98A3-4370-A09C-FFEC0EE77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2B3BA-0A23-484A-97F4-CFE046FD7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E90F7-46E6-4ECB-A108-3731C46BB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F309E-E331-457B-9C3D-3BDF2FE67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CF9F3-71C2-4B51-A9E2-92886E66F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2711C-4690-4081-8467-998B2BAD5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9E4B-9807-47BF-BC12-E0A532A4E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E8E13-969A-4AB8-8D07-9DA238067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79DE2-B2BA-49E0-A9C7-27952590B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80DFB-1ED9-4D47-8046-D8CFEDAC1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482A3-90F0-49DD-8014-A0479CA51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0166E-BE59-4B36-9B48-420B4526A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104A2-6454-4E76-8429-90364E060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A0F77-7922-49B5-8ED0-166FF1F7E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D5917-4287-4383-AEE3-DD3AA585B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72B52-2D18-4AA4-AE15-C03B29177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ED821-7C79-4001-ABC8-EDEA541F0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1410-45F7-40FD-99C7-531D23135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C81DD-74F5-45EA-AC99-1A3DE8162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3B318-0413-4C1D-B797-8ECAA66AD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CD4CAF-4F1C-42F2-A7F4-543B1E842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812EE-A955-44AB-A240-60921991A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3EC1B-EB65-43C9-8686-25A8EF1C3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64FFB-D275-459C-866C-50CE0E8F5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223F3-9BD7-4713-BA60-3452CD851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57B6B-26AF-4F41-8F0A-DC3D9540D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DD5328-B1CE-4F9F-8575-3FFD32099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FCAF-5427-463D-9F97-7A28397F7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AEA0-D926-40C3-B1C3-E3BBFA140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45C3-CF81-4E36-835D-BC21935D3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4F85-F1F3-43EC-91C2-1B33D12D2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6DAD-BB2C-4E4B-8B07-B8C197012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8640" y="0"/>
                <a:ext cx="2753640" cy="116964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431D1-9960-4419-BD9E-087B51D4F7F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52" name="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6DB55-C4E3-4191-9CC2-C4B0A99BA863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8760" y="1272960"/>
            <a:ext cx="7701840" cy="13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5" name="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7" name="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45DFF-6A3F-41F8-9D38-3CEBE08A38E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142" name="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144" name="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148" name="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065320" y="1146240"/>
            <a:ext cx="6656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10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ftr" idx="11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sldNum" idx="12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199F0-FB76-4B77-9D2A-4B2F8B5199C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7880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7 ГОД И ПЛАНОВЫЙ ПЕРИОД 2018-2019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 </a:t>
            </a:r>
            <a:br>
              <a:rPr sz="1000"/>
            </a:br>
            <a:r>
              <a:rPr b="0" lang="ru-RU" sz="1300" spc="-1" strike="noStrike">
                <a:solidFill>
                  <a:srgbClr val="006666"/>
                </a:solidFill>
                <a:latin typeface="Times New Roman"/>
              </a:rPr>
              <a:t>(решение Думы Дальнереченского городского округа от 16.12.2016 № № 88</a:t>
            </a:r>
            <a:br>
              <a:rPr sz="1300"/>
            </a:br>
            <a:r>
              <a:rPr b="0" lang="ru-RU" sz="1300" spc="-1" strike="noStrike">
                <a:solidFill>
                  <a:srgbClr val="006666"/>
                </a:solidFill>
                <a:latin typeface="Times New Roman"/>
              </a:rPr>
              <a:t>"О  бюджете Дальнереченского городского округа на 2017 год и плановый период 2018-2019 г.г.«)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701640" y="990720"/>
          <a:ext cx="7777080" cy="547524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263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6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43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2,2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9,33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9,2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2,3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8,2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6,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3,1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3,1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4,0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9,1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7,4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8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8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,5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0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3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5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8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1,3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8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2,0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0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0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7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7 ГОД  </a:t>
            </a:r>
            <a:br>
              <a:rPr sz="1500"/>
            </a:br>
            <a:r>
              <a:rPr b="1" lang="en-US" sz="1500" spc="-1" strike="noStrike">
                <a:solidFill>
                  <a:srgbClr val="006666"/>
                </a:solidFill>
                <a:latin typeface="Arial"/>
              </a:rPr>
              <a:t>512,88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165320" y="2368440"/>
          <a:ext cx="7076880" cy="37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368440"/>
                    <a:ext cx="707688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на 2017 год – 335,65 млн.руб. (местный бюджет – 126,93 млн.руб.,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08,72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52,02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на 2017 год – 8,8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– 9,04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898920" y="843480"/>
            <a:ext cx="7607160" cy="9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– 1,87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6,87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– 1,2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249200" y="1879560"/>
          <a:ext cx="7318440" cy="46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9200" y="1879560"/>
                    <a:ext cx="731844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959040" y="319320"/>
            <a:ext cx="7638120" cy="7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72e"/>
                </a:solidFill>
                <a:latin typeface="Times New Roman"/>
              </a:rPr>
              <a:t>РАСХОДЫ НА НЕПРОГРАММНЫЕ НАПРАВЛЕНИЯ </a:t>
            </a:r>
            <a:br>
              <a:rPr sz="1600"/>
            </a:br>
            <a:r>
              <a:rPr b="1" lang="en-US" sz="1600" spc="-1" strike="noStrike">
                <a:solidFill>
                  <a:srgbClr val="06072e"/>
                </a:solidFill>
                <a:latin typeface="Times New Roman"/>
              </a:rPr>
              <a:t>ДЕЯТЕЛЬНОСТИ В 2017 ГОДУ</a:t>
            </a:r>
            <a:r>
              <a:rPr b="0" lang="en-US" sz="16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878040" y="1409760"/>
          <a:ext cx="759132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8040" y="1409760"/>
                    <a:ext cx="759132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(млн.руб.)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419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6 г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2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0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5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,9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35,0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7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3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7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2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5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541440" y="990720"/>
          <a:ext cx="8151840" cy="566244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351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6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9,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7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8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6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4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9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414360" y="990720"/>
          <a:ext cx="8567640" cy="575316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6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8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6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3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3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на поддержку мер по обеспечению сбалансированности бюджетов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6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03480" y="277920"/>
            <a:ext cx="751824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0033"/>
                </a:solidFill>
                <a:latin typeface="Times New Roman"/>
              </a:rPr>
              <a:t>СТРУКТУРА ДОХОДОВ БЮДЖЕТА ДАЛЬНЕРЕЧЕНСКОГО ГОРОДСКОГО ОКРУГА НА 2017 ГОД (49</a:t>
            </a:r>
            <a:r>
              <a:rPr b="1" lang="en-US" sz="1900" spc="-1" strike="noStrike">
                <a:solidFill>
                  <a:srgbClr val="330033"/>
                </a:solidFill>
                <a:latin typeface="Times New Roman"/>
              </a:rPr>
              <a:t>9,33</a:t>
            </a:r>
            <a:r>
              <a:rPr b="1" lang="en-US" sz="1900" spc="-1" strike="noStrike">
                <a:solidFill>
                  <a:srgbClr val="330033"/>
                </a:solidFill>
                <a:latin typeface="Times New Roman"/>
              </a:rPr>
              <a:t> млн.руб.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127160" y="1235160"/>
          <a:ext cx="7045200" cy="49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1235160"/>
                    <a:ext cx="704520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СТРУКТУРА СОБСТВЕННЫХ (НАЛОГОВЫХ И НЕНАЛОГОВЫХ) ДОХОДОВ В 2017 ГОДУ (2</a:t>
            </a: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83</a:t>
            </a: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,21 млн.руб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452520" y="1685880"/>
          <a:ext cx="8118360" cy="471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1685880"/>
                    <a:ext cx="8118360" cy="471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0033"/>
                </a:solidFill>
                <a:latin typeface="Times New Roman"/>
              </a:rPr>
              <a:t>СРАВНЕНИЕ ОБЪЕМОВ МЕЖБЮДЖЕТНЫХ ТРАНСФЕРТОВ 2016 И 2017-2019 ГОДОВ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325440" y="1138320"/>
          <a:ext cx="4686120" cy="57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138320"/>
                    <a:ext cx="46861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5240160" y="1141560"/>
          <a:ext cx="3470400" cy="51768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33"/>
                    </a:solidFill>
                  </a:tcPr>
                </a:tc>
              </a:tr>
              <a:tr h="100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01320" y="277560"/>
            <a:ext cx="75200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7 ГОДУ (21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,32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30000" y="270000"/>
            <a:ext cx="81025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541440" y="1351080"/>
          <a:ext cx="8440560" cy="510048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348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6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6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7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,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6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9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7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7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3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9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9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5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1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90360" y="277920"/>
            <a:ext cx="773100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7 ГОД (5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12,88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557280" y="1278000"/>
          <a:ext cx="8200800" cy="521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278000"/>
                    <a:ext cx="8200800" cy="52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7-01-26T07:57:55Z</dcterms:modified>
  <cp:revision>114</cp:revision>
  <dc:subject/>
  <dc:title>Структура собственных доходов на 2016 год бюджета Дальнереченского городского округа</dc:title>
</cp:coreProperties>
</file>